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673-8DA0-4887-8238-D77E16B0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A60-F85F-4CD6-A0BD-BBBA5DDE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E2527-D92F-46FC-BA7A-F028B5F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F7D22-3F10-48FA-9224-E7ADA45B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20705-C9A9-4CAA-8FF4-14FDA390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16C16-B105-44AA-A211-ECC49B2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EE757-76E9-4D9E-8BEF-1D58B78B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F6116-CB54-4679-8985-A7E9DF2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4E46E-F27B-4064-B59D-79646F3F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C9227-FD1A-46E2-8B4E-AA920B1F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3ED1-F06A-4045-BCA2-503880CF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390C0-868C-4253-967F-7E6ABC52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BA1-2F03-411E-B91B-C2427FFA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FCD30-7E10-42ED-89F0-A0774F7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6C240-3DE1-4586-82BE-AF77BF8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EC7F4-364A-4C7A-A587-E62DDC4F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5E760-A98A-4CB5-8324-4AD2048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A34BB-B29E-4A8F-B98C-68C98C7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622F6-C444-4E6C-8EC7-CE2394B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045A9-6662-4550-9411-1230224B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B93BE-2884-44AC-90D2-280D2AC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B8289-3B2B-4A79-843F-E1B4585B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03E90-0F6D-4371-A04D-DE56EA02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FF1-F7AB-4716-900C-38E19D94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2A0DB-C6F8-4086-8424-AD272783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3B7726-D5C1-4687-BB69-E219FBA5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FE1E43-BB21-474F-AFAF-1FAF0503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F7DB82-9037-47FC-ABD4-60976C3E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E2ADC4-03E2-4E33-A5BB-06CB5258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04B7FD-F2A7-4493-8DA4-F6EF650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161D39-07FA-45FF-92F6-ED47EBAB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324881-856B-4E55-A405-8B4B03A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217AC7-5FD1-4F4F-B182-A0859B29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A5835-C33C-460B-BE80-F555E01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6B96-4A77-4C94-83CA-2B267162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1FC763-732D-4EC6-AA1C-902FEFF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B2FBB4-5D4A-4B83-95A3-8FE48B14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2D6A98-3A4F-411C-B2E8-A8E52631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413F1-5626-4398-8726-CC968BEF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84347-D9CB-4DBC-9584-CE046767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57E87-F6DF-4CB8-AD26-EC17677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3E865-50AF-4A67-894B-A9DCA3B5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1445D-A35E-4D48-B309-05AF3CF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68BD0-3EB2-4C8B-9CB4-7C9E7401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B5BA5-F9B5-412B-92C8-F3EDEFB4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EAEA-90A2-459B-B295-1C287B1F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4654E-35F4-447E-8012-4108FA21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15A25-475D-4D4D-ACA9-499A9E4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72D9A-F483-4402-A318-B3027790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AB188-BA98-434D-AFF4-DFDBABB1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0944D-2C7F-4C3D-AC2F-A5AF4D20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98E-91D3-404E-9A7A-5067B265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E79F-18C5-434C-ACBB-7F0E0C32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336-9CF8-4428-9E81-28903B7C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40A9-1B73-4D75-8DE9-86E2785B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6C2E-65B8-4D48-B6F4-4257FEE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427-5FFA-4B2F-AC15-B716B8F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36B8-2CFE-4974-8FC1-E0317251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CB9D-11CD-49A0-A94E-40D9FA84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4DB-7D56-4953-9AB8-126BB0A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D697-E304-4D95-B316-A106DC3D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505-2C57-424C-9882-CF3AEAC0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9954-6C4B-4CC4-91A5-BD77F0A4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B5A3-E146-41C1-BC74-1988F9C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5F2E-E60E-4A07-B06D-0E94F00D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CFD8-9890-401B-81DE-472D39C9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BF9C-5BBC-4F20-8D78-8A80548A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319-525D-4E28-9447-3D3D9F32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27A1-7111-43C6-9A3F-2FAD82EB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0087-C5C8-480C-8624-09EB7A6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373B-6B06-4110-B748-6ECF35A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1A45-7102-4B71-A95A-01F9211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34A8-7304-4AC0-81DC-0DFDBA31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2F82-AEA1-4CA5-9451-46657598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CC34-1F03-4437-9FEA-308CB30F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C5CE6-4EC9-4BDD-A275-E1EA412B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34B7-D4FD-4CDC-96D3-E9DEA269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2247-BF32-4DBF-BBCF-19558650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5B3-89F0-4179-803F-C55B175B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84D8-ED40-48D9-9571-938C87A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454E-9C3A-4DF3-BAC8-04C49B2B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9E88-DF2F-4DF8-B578-43CE6E6C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1BA8-BC06-4FDB-ADAA-61D8E8F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4357-7CFC-4781-AC76-409824F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065F-9071-4FA5-835C-066E5A3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0E10-65CD-4F73-8E17-91C706C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7622-D568-476A-98B4-82266359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7B3A-2118-48A5-ADEE-DE960109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5446-4098-4938-8F75-95BD302B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109-2060-447D-AF84-311AA486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1BA2-DC8A-41ED-8CD2-36EAF11C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FE26-267F-4C63-9301-82CC29E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481A-C766-4599-BFAC-013E133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4F7DD-0D74-417E-9EDA-EA86815E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EAED5-3CF7-4150-9441-6E924FE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4D843-7FF8-4737-AEEE-14EC03D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507E7-E9D9-4991-9EB1-47399F4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6D761-E177-43BB-B026-D79BE938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07A2-F086-4CF9-9B26-4EDA7DF7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DF08-D4A9-4163-AC1F-90D59543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E57-715F-40FA-8041-E6C0A49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A138-5EB4-49AA-A241-77BFBD1B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C609-3F4E-4575-9F8A-0FF4CBF1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CA6A4-9713-44D8-A01F-154DCA4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6F12-2542-41C9-8DAD-06AE951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3C014-C5E6-42DB-BA25-8FAAE840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CFDD-A964-4704-8341-9EE1296F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0E0F0-089A-49FD-8627-5E49EB6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9EED-3B33-4409-8BDC-2C55399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F5AA5-C198-47FB-AD67-4AE5BE15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F7BB-F64C-454B-A554-B231A438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C01-87B3-4BE9-AD8C-E510600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B1BD-B448-4C5C-8A13-6602A599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582F-2F69-4F0E-8A75-593AC1EA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5FB3-70CD-4CB3-8771-5DDB0FE1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36125-A6D9-42D5-A521-F7614359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69C1-8EA2-4A69-8F0C-40D6EAD8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5EC41-46FD-4237-A8DE-D059AB31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372BB-A6CD-4222-9D6D-894F0C59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C2C59-108D-44E1-ABE7-47208BC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A1A3-F0B5-40A1-8083-7E805D83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76616-63D4-4926-84EF-29EC2D3E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7B0-ED00-44DE-A0B4-EDE6BAB1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7FF6-EC12-4D0B-A8B8-E598D528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C991-33E3-4722-BC88-A60C224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B5940-FBE8-4F84-844D-5756BFCD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D5CA-390D-45E4-888B-567AE4E8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6E92B-C1B2-4F6E-BAE6-6D4B7EDF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3C5F5-1752-4E56-9E45-80DAF97D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A97D-D574-4AA3-A6E4-A48F14D1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E9873-F908-4F4C-B5A6-8406E6B6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1CA71-0740-4E81-AF01-AB3B8BDC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9C961-893C-4705-8026-874A4A97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BA0-25B0-4F49-ACC9-77B9D5BC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FE33F-2EA2-4E6C-A545-E2341768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5E0A-B7A1-45DE-8921-78CE14F8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0801-7EAC-41D6-84AD-B9F720EF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2E08-EAB4-46FB-BD52-5810B2D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C923-B689-41A5-BB7D-F4D95944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FAB72-0115-4913-9527-DC7127EE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B804-C740-41D4-971D-BBBEB947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BF3C5-CE2D-4BD6-BE70-75D55CC3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61FF9-6148-4EE0-8574-8A24814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1D75F-3821-46C9-A67F-BC56174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E796-038B-4E18-BB52-75C1980DC6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3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3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3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1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2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5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71A3-2CD6-45E1-A8B9-DCA56B03F56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8F7E-3CBB-4275-8820-23BB480519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4837-694B-4687-8632-3277C0EDCB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AA8E-54B6-471D-8795-8CE8B21881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76A2-212B-4EFE-A5A1-C38BA284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654D-6E09-44D8-A2EF-1111789F6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8386-B386-4E2E-B21B-6B2D775CD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5755-E118-4E9F-9A6F-0033E4BF1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A725-A357-4325-90DE-7EF6C89EDA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8DE-351C-4291-907A-3CE2D37ADB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5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1455-4101-4445-A4D4-4D046D310B4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 Cas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r : Nick Gr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352680" cy="23814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log cabin"/>
          <p:cNvPicPr/>
          <p:nvPr/>
        </p:nvPicPr>
        <p:blipFill>
          <a:blip r:embed="rId2"/>
          <a:stretch/>
        </p:blipFill>
        <p:spPr>
          <a:xfrm>
            <a:off x="2286000" y="4267080"/>
            <a:ext cx="4762440" cy="222912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garaj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garaje muy grande, como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ocina es moderno,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arde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jarden es una lujoso nuv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1371600" y="217188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patio muy bello es nuev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"/>
          <p:cNvSpPr/>
          <p:nvPr/>
        </p:nvSpPr>
        <p:spPr>
          <a:xfrm>
            <a:off x="3505320" y="4038480"/>
            <a:ext cx="914400" cy="91440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295280" y="2800440"/>
            <a:ext cx="606744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cuart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el cuarto muy increibel,lujoso es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sal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omador es estupendo,bello,fabuloso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819520" cy="210168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038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a Ba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ñ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ñ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 es antiguo,viej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1600200" y="2897280"/>
            <a:ext cx="54100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medor muy grande and como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572000" cy="336852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4290840"/>
            <a:ext cx="358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5:11Z</dcterms:created>
  <dc:creator>grovernic</dc:creator>
  <dc:description/>
  <dc:language>en-US</dc:language>
  <cp:lastModifiedBy>grovernic</cp:lastModifiedBy>
  <dcterms:modified xsi:type="dcterms:W3CDTF">2011-04-07T18:03:51Z</dcterms:modified>
  <cp:revision>4</cp:revision>
  <dc:subject/>
  <dc:title>La Casa</dc:title>
</cp:coreProperties>
</file>